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926-FBE1-4E01-ADF2-CA40C19B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B06-058B-4DAB-AB50-4D556A8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085-F9CC-488D-A99E-B43FB7A7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4F0-9409-4D4E-84F8-F01E6987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E7BA-0284-4933-ADB6-4E4E5B7E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A1F5-282B-4E5D-85AE-B60ACD4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0D7-40A4-473F-B432-6D66336B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F277-1E05-4208-8AA9-E3A27F1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3CA-5DFF-47EF-895F-EBBADB56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8265-7948-4D01-BC12-066A14D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900-7072-4BA4-AEEB-BB12705B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6D-A0E8-4D58-A4F4-F19CDA96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CDBA-A5D9-4234-9364-28750377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FFCB-1837-49FD-A673-CA4C3D89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340-7EBB-4515-97C1-21326A75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39CD-656A-420B-BE01-F4B818DC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E485-94A6-4EC8-8C44-B1CFBDB8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AAC-9FFC-4F18-A71B-473DE690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2A7-F486-46A3-9B63-9D953E9F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6ED-C5A5-42FF-B13A-3BDDF63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ED4-EFF2-482C-B7CE-68616A2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FDE-EBCF-437F-A3A0-0578D42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7DC-263F-4779-A5F9-54463FF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6B7-4F94-4AEB-ABF0-52CE1AC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8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90560" y="63673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Copyright 2002 MHV Enterpris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B922-9E5C-4C7F-8898-847C8AC6EF4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DA4-C9D0-4DA8-ADDD-9A0401D90DA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Books and Visual FoxP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d b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ank A. Marafino J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 Basic Request Ty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Ad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Mo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Query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TxnDel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TxnVoi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a Requ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d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nding the Requ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ResponseSet = loQBSM.DoRequests(loRequestSe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turns a Response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Se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array of object references – one response for each reques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cking Respons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us an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ok at the first respon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Response = loResponseSet.ResponseList.GetAt(0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IF (loResponse.StatusCode # 0)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MESSAGEBOX("Status: Code = " + ALLTRIM(STR(loResponse.StatusCode)) + ;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", Severity = " + loResponse.StatusSeverity + ;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", Message = " + loResponse.StatusMessage)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ENDIF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inquishing th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QBSM.EndSess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QBSM.CloseConnec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QuickBoo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expens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ry easy to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Excell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reporting too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002 version has Developer Too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cellent search capabili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y Data Ex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ccountant’s Copy” Functionalit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Not QuickBoo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 really multi-us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atabase search is sl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rietary databa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 an “Industrial Strength” accounting system (GAAP Compliant Issue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Old W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 a complex IIF file using Excel VB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ll the user what file you created and where it i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r then imports this via the QuickBooks menu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r must be logged on in Single-User mod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Overview Bas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LEDB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XML Interface if desired – not covered he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ts of good docu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s lot of Enum documented in .H fi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 Based – starts counting at zero (when referencing array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Probl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low, slow, slow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rror wh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in Single-User mode by another use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to a modal scre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in another compan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ultiple connections to different databas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r tries to open QuickBooks when your application has it open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omplete Record Sets are returned where fields are empty and not required by QuickBook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Books SD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stablishing a communication channel with QuickBook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ilding a set of request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nding the request set to QuickBook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hecking response status and data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linquishing the communication channel with QuickBook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ablishing commun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uickBooks Menu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di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referenc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Integrated Applicatio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ompany Preferenc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 = CREATEOBJECT('QBFC1.QBSessionManager'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.OpenConnection(&lt;Application ID&gt;, &lt;Application Name&gt;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.BeginSession(&lt;Database File&gt;, &lt;Open Mode&gt;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ingle User –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ulti-User – 1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on’t Care – 2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a set of reques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QBSM.CreateMsgSetRequest(1,1) &amp;&amp; {Major Version}, {Minor Version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turns a Request </a:t>
            </a:r>
            <a:r>
              <a:rPr b="0" lang="en-US" sz="2000" spc="-1" strike="noStrike" u="sng">
                <a:solidFill>
                  <a:srgbClr val="545472"/>
                </a:solidFill>
                <a:uFillTx/>
                <a:latin typeface="Tahoma"/>
              </a:rPr>
              <a:t>Set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Object reference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RequestSet.Attributes.OnError =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0 – Stop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 – Continu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 – Rollback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quest Set allows for one at a time or many at onc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4:25:24Z</dcterms:created>
  <dc:creator>Francis A. Marafino, Jr.</dc:creator>
  <dc:description/>
  <dc:language>en-US</dc:language>
  <cp:lastModifiedBy>Francis A. Marafino, Jr.</cp:lastModifiedBy>
  <dcterms:modified xsi:type="dcterms:W3CDTF">2002-07-10T02:13:05Z</dcterms:modified>
  <cp:revision>12</cp:revision>
  <dc:subject/>
  <dc:title>QuickBooks and Visual FoxPro</dc:title>
</cp:coreProperties>
</file>